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DD28-361E-4314-A1D3-95061826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EBAF-1C10-4B68-B5A7-19A3DF52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02B-1646-46C4-A711-C9E5DF62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D0F-BBD3-41E5-AD0A-3C0FD8AE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DF5-47AD-4FC6-BA65-A322FC18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C43-5EA5-4EF0-B7F1-8B2920AE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A8E-580E-4EA0-9E77-20EBE20B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59E-C616-458D-A45F-ABF93E7B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774-DC60-4155-924A-C750B567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CC4-956A-4F22-B844-1996E729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8B5-9771-4130-8EF0-A48EE6F3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6DE-34F0-41E0-858C-325879A0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DBDC-38AE-4207-9780-6694F726F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itsngrace.files.wordpress.com/2008/03/thankful.jpg&amp;imgrefurl=http://philsword.wordpress.com/2008/09/03/thankful/&amp;usg=__kqhddcJ53BPZOuINMHydUSimZuQ=&amp;h=221&amp;w=348&amp;sz=56&amp;hl=en&amp;start=9&amp;um=1&amp;itbs=1&amp;tbnid=qq9Tt9_16OvPBM:&amp;tbnh=76&amp;tbnw=120&amp;prev=/images%3Fq%3Dthankful%26hl%3Den%26safe%3Dactive%26rlz%3D1T4SUNA_enUS347US343%26sa%3DG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t3.gstatic.com/images?q=tbn:qq9Tt9_16OvPBM:http://gritsngrace.files.wordpress.com/2008/03/thankfu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 rot="20384400">
            <a:off x="3490920" y="278604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ful, express your gratitude, have h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t2.gstatic.com/images?q=tbn:g7eeF5o7WYXfHM:http://www.natureartists.com/art/resized/1080_Wild-Turkey-.jpg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477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0" y="762120"/>
            <a:ext cx="4572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s giving, give than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lif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opportunity to make everyday better than the l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great feast happening everyd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everlasting opportuni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lways going fu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erson I am, the people around 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sun shining life on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ongoing blanket of love on 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blanket I hope to cover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opportunity to do gre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eat things for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eace we can bring by the simplest th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lo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mazing love that covers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feel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y, Peace, Love, Hope, Faith, Happin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lif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myself the love I can hand out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8:02:13Z</dcterms:created>
  <dc:creator>ITSUser</dc:creator>
  <dc:description/>
  <dc:language>en-US</dc:language>
  <cp:lastModifiedBy>ITSUser</cp:lastModifiedBy>
  <dcterms:modified xsi:type="dcterms:W3CDTF">2009-11-24T18:29:40Z</dcterms:modified>
  <cp:revision>4</cp:revision>
  <dc:subject/>
  <dc:title>Slide 1</dc:title>
</cp:coreProperties>
</file>